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DD70-755B-43C0-B64B-FE3A420D4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980F-8DAD-447C-B418-3F898E33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CE91-2BE3-4CFB-A9F4-10F89782C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89AE-03B4-471D-9981-2A6DAC52E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E169-0C37-46FF-B41B-C95898AA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0973-6D84-4D9B-8C38-66979CBF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E663-E32B-4E6E-80FF-DD68E0DE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6173-6418-4368-98B5-69DB0889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07BF-AFC4-4DF2-865B-43FED4C9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E21D-5A00-4EEC-9E8E-1D55A856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5E14-2251-4BAB-BB1D-B1D5DEE2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7FC1-2BE1-4E14-AFF1-259E46C0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AA2F-835D-4964-9DE7-06F321C984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mmunica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772400" cy="57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53341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52480" y="228600"/>
            <a:ext cx="44085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mmunication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cess of sharing idea, thoughts, and feel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943600" y="2590920"/>
            <a:ext cx="24321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Sounds simple? But how does it work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76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ender and Receive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nder encodes the message into symbols or signals the receiver can interpret or deco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ceiver decodes the message and gives feedba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erbal / Non Verba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4495680" cy="5333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495680" y="1219320"/>
            <a:ext cx="46483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ield of experi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2296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en I say the word “chicken” what do you think of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61722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78168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12:03:38Z</dcterms:created>
  <dc:creator>*</dc:creator>
  <dc:description/>
  <dc:language>en-US</dc:language>
  <cp:lastModifiedBy>*</cp:lastModifiedBy>
  <dcterms:modified xsi:type="dcterms:W3CDTF">2011-09-07T12:20:34Z</dcterms:modified>
  <cp:revision>2</cp:revision>
  <dc:subject/>
  <dc:title>Communication</dc:title>
</cp:coreProperties>
</file>